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F70C-6657-4E7E-94AE-87931771E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B0A6-57CC-4B86-AFC3-F2356286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90DD-732E-4B5A-A235-488EF5A00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D9E3-6D31-4A61-A942-B42C7CB49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99F7-45BF-4C64-A7FD-49C1EF67D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5926-A4E3-4C79-8090-A40BC024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C577-60C9-40BB-AE6B-A13286D8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9FEE-3C00-4681-8A26-023F87F1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6463-6231-4B05-BACC-2780C05B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1573-C04E-4318-8784-4D2C02BB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5AE1-78E8-4C47-BF29-68F084E4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4B6A-80B7-4C03-985F-F0ECB2E0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55B4-FEEC-4DD8-9F4D-86D58812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CA5E-5A3F-479A-B8D9-78FE73A1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855F-2C2E-4B6F-B051-B9430016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A787-CE3E-45AA-9EA8-5AD3B4CA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31AA-211E-46D5-B89D-F5C98710D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D796-F237-450F-891D-891A3AC4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C47B-BBFF-458E-AEA4-121C1896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7472-DE11-491C-8BBF-0B2DE3D2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3F1E-8B78-4A0B-B60A-F498A53D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C3BC-2CD1-4865-B362-F7A8D7A9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C580-A804-437A-A8DE-ABB3C07F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5BBC-C04E-4A88-8FA1-2C7F74F8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C6D5-7773-4627-8E92-A37AF1D40E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B9CB-5668-4DB6-840C-F3651281C7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ass Cephalopoda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“Head-Footed” Mollu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o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ephalopods Walk on Their Heads…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las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ephalopoda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cludes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ctopus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squid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autilus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devil fish,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uttlefish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phalopoda comes from the Greek word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epha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eaning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ead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od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eaning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oot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modified foot is actually concentrated in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ead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cephalic region of their body.  It forms a funnel tha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apidly removes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ater from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ntle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vity of the body when the cephalopod mo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nterior portion of the body is drawn into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ircle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rown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entac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 These Tentacles Make Me Look Fat…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phalopods range upward in size from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 cm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rgest invertebrate known on earth is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iant squid 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Architeuthis  .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t can reach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60 fe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length and weighs nearly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 ton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iant squid has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argest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yes in the animal kingdom.  They a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5 cm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diamete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917960" y="2527200"/>
            <a:ext cx="392760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Umm…Have You Seen My Shell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members of Cephalopoda do not have a visibl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hell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autilus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 only member of this class that still has a shell.  It uses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gas chambers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 its shell to remain buoyant in the wa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quid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as a tiny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remnant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hell left on the inside of its mant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octopus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as lost its shell completely over the last ti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791320" y="3429000"/>
            <a:ext cx="2995560" cy="2995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181480" y="1143000"/>
            <a:ext cx="20545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ving On Up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phalopods are ver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ast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gile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mmer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swim by expelling water from thei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ntle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4920" y="2319480"/>
            <a:ext cx="426708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Judge Me By My Book…Not My Cover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17960" y="1143000"/>
            <a:ext cx="3927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phalopods are very complex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nimals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have complex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irculatory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s made with a closed series of vessel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Octopus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_ have very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mplex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ervous systems.  They are capable of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learned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haviors.  Their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yes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very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mple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 a lens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rnea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and retina.  They can see in the water better tha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 human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octopu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also use its tentacles to detect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textures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 objec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1981440" cy="1981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04920" y="3276720"/>
            <a:ext cx="45622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efending My Domain…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phalopods exhibit many complex behavior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ctopus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quid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n expel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k called sep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 a defensive behavior to fool and evad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edators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topus use their sharp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eaks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trong tentacles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capture and harm prey.  They are one of the ocean’s mos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owerful preda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330048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7:19:40Z</dcterms:created>
  <dc:creator>kmcgrady</dc:creator>
  <dc:description/>
  <dc:language>en-US</dc:language>
  <cp:lastModifiedBy>kmcgrady</cp:lastModifiedBy>
  <dcterms:modified xsi:type="dcterms:W3CDTF">2011-02-28T19:22:30Z</dcterms:modified>
  <cp:revision>3</cp:revision>
  <dc:subject/>
  <dc:title>Class Cephalopoda</dc:title>
</cp:coreProperties>
</file>